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E53B-9DD3-49D7-95E9-C6DBE04AA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38CB-1DD4-48FD-BA45-E56B0EE88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822C-6923-4DF4-9F9D-C793B6C61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DA2E-4211-419B-9CA9-139595FE4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7C4D-C040-4047-A5E3-ABF190977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C5B7-AB40-4282-AAE7-2B652AA60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6B29-DDF0-44D3-8153-DC1778217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26A3-A97C-4A36-904D-0DB2BA947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2D74-4424-470C-AB4A-6E48F4BDD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A176-5EA8-4163-9ADD-7B0DFCC25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C33B-E65B-41DA-84F8-3B916CE88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AFEB-91CA-44A5-8FDD-4961DFC70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8DF9-2588-4743-AE8F-05950C4A6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E41F-793B-4951-8B9A-BEB0EC571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9FD6-63CD-4848-A522-3B7B9CDB5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39BE-B0B8-4F47-B650-30F13CC71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2304-02DB-4DCA-AB0B-214855B87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978B-1D6E-4963-854E-AF5CEE890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4C8F-648C-4DF4-AE6C-8657D160B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9119-C1D4-40CC-A96A-C508A3DB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AA1-5CF6-443B-9E79-783F1F22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2BC2-FC89-4154-9546-2E098FE0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D9E4-A49F-4178-9489-0ED49C1C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C66A-1A38-48EF-9004-347CF10C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DE4C-D776-45D2-A91D-B0ED7119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6566-9DAD-4E22-9DE1-151108A2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B300-CB80-4E04-9481-757F9EA7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17AE-052A-4CD2-8788-1488EE44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DAC6-C39A-4C71-8D76-A06FD1F6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9619-FC40-4700-A017-DB57AFBD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D45E-5AAF-4852-87F2-0E79ED69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DEB4-EB6E-422E-AC56-190E0F3EC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rôler l’équipement utilisé au laboratoire en microbiolog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3283-E943-4494-8954-600F20CE1C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86E5-7344-41E0-BFAD-25F22B467F2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ipement - 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r les températures 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ub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rig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gélateu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e fonctionnement 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d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les regi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A4AE-E54A-4147-974B-D7C504FCBF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EA5B-7C19-4139-91BE-B33257265D9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84560" y="1295280"/>
            <a:ext cx="131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Stériles</a:t>
            </a: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7520" y="4800600"/>
            <a:ext cx="186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É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sécur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es déch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échets contami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A559-70FF-4BC6-B92F-5040123E27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ux niveaux de contrôl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chim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bactér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es produits stér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 de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7C0D-E192-4038-94EB-8CD849FE578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95E5-475A-4F0E-B212-EEE97160378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ateurs chim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 de stérilisation est vérifiée.  Ne contrôle ni le temps ni la 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8080"/>
                </a:solidFill>
                <a:latin typeface="Arial"/>
              </a:rPr>
              <a:t>Indicateur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, le temps et la pression sont vérifi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indicateur ne garantit pas la stérilisation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autoclave est trop remp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es volumes de bouillon sont trop g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9112-F0DD-4728-B5B5-5895086966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gistr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E602-93CF-483B-9550-599F08ED922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763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00400" y="1677960"/>
            <a:ext cx="5562720" cy="3751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Garder les optiques pro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Avoir au moins une optique à immersion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Utiliser les lentilles montées sur res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mettre d’huile sur les opt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permettre à l’échantillon de migrer au dessus de l’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ff32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aff32"/>
                </a:solidFill>
                <a:latin typeface="Arial Narrow"/>
              </a:rPr>
              <a:t>Maintenir le réglage de Köh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dolmazonv</cp:lastModifiedBy>
  <dcterms:modified xsi:type="dcterms:W3CDTF">2010-04-07T14:19:03Z</dcterms:modified>
  <cp:revision>9</cp:revision>
  <dc:subject/>
  <dc:title>Slide 1</dc:title>
</cp:coreProperties>
</file>